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64F6A-552A-4AFE-84D9-8A7C67A9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04C00-401E-42BE-A154-0AC5069F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E8791-4238-4915-93DF-31790135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6F3F4-B26A-46FB-9D59-78529AAA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3B5C-36BC-4882-AD18-378B779F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25D5-8EE7-4B43-9D39-C3164DFA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34B9-7308-4E2E-B43F-D29A001D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2BF3-2B9C-433E-849A-BA0B0582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9765-DD51-4F9B-9460-FB0CB3AB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7F27-6E22-4C24-AC74-A18FF721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8005-6FEA-41E3-BBFB-38CEF973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4E0C2-31F5-4653-9450-BF78C758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D3C3-2CE0-4EDB-9E82-D3FEB82F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25F5-42FB-4AA5-AFDF-8A6B84D4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D830-2333-4FE1-AA91-5ACDB832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3528-5DD8-4873-BE44-1CF910BE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9EE7-D064-4085-8175-0AF85E29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47EF6-864F-46FA-AD14-A7C48CA8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92C51-316B-4789-9EB2-D5AEB216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8DAF1-F7D9-4C78-B66B-1592CAE5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909C3-DA94-4E4D-9608-2A1786C7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82366-CC91-4E92-8141-D2C75FAE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E66E3-A404-4D5E-BDAA-9BD2123C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98708-287D-48A3-88DE-CF4DAFBC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CC03-8771-4D48-984B-FCB07DB92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725A-AC33-4DFD-A5AF-9BB2C6E19A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otation Marks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Lola has been telling me for years that s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ants to leave her job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Lola has been telling me “for years tha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he wants to leave her job.”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Lola has been telling me for years, “tha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he wants to leave her job.”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Lola has been telling me for years that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she wants to leave her job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Lola has been telling me “for years tha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he wants to leave her job.”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Lola has been telling me for years, “tha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he wants to leave her job.”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“What do you mean by “min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rocedure,” doctor?” asked the patien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‘What do you mean by “min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rocedure,” doctor?’ asked the patien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“What do you mean by ‘min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rocedure,’ doctor?” asked the patien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“What do you mean by “minor procedure,”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ctor?” asked the patien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‘What do you mean by “minor procedure,”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ctor?’ asked the patien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) “What do you mean by ‘minor procedure,’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octor?” asked the patien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 film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Stand by M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was based o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ephen King’s short story The Body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 film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Stand by M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was based o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ephen King’s short story “The Body.”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 film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Stand by M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was based o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ephen King’s short story ‘The Body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The film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and by M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as based on Stephen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ing’s short story The Bod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) The film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Stand by Me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was based on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tephen King’s short story “The Body.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The film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and by M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as based on Stephen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ing’s short story ‘The Body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“‘Piano Man’ may be the most annoying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ong in history,” said Benita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“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iano Ma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” “may be the most annoying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ong in history” said Benita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Piano Man may be the most annoying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ong in history, said Benita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“‘Piano Man’ may be the most annoying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ong in history,” said Benit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“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iano Ma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” “may be the most annoying song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history” said Benit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Piano Man may be the most annoying song in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story, said Benit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have read “the Bible” and “the Koran,”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Jonas sai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Jonas said that he has read the Bible and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Koran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Jonas said that “he has read the Bible and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Koran.”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have read “the Bible” and “the Koran,”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Jonas sai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Jonas said that he has read the Bible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nd the Koran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Jonas said that “he has read the Bible and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Koran.”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at are quotation marks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238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otation mark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used around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irect quotation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someone’s speech or writing repeated exactly, word for wor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IRECT QUOTATIO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elen asked, “Can I borrow your car?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Quotation marks are not used around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direct quotation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restatements of what someone said or wrote, not word for wor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DIRECT QUOTATIO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elen asked to borrow my ca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re’s an essay about The Godfathe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lms in this week’s New York Time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re’s an essay about The Godfathe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lms in this week’s “New York Times.”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re’s an essay about “The Godfathe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lms” in this week’s New York Tim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There’s an essay about The Godfather films in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week’s New York Tim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There’s an essay about The Godfather films in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week’s “New York Times.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There’s an essay about “The Godfather films”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this week’s New York Tim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) none of the above; the correct revision is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There’s an essay about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The Godfather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films in this week’s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New York Times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rrors 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Mr. Rivera said that he “has read all of th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rry Potter books except for Harry Potter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the Deathly Hallows.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Mr. Rivera said that he “has read all of th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rry Potter books except f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rry Potter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nd the Deathly Hallow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Mr. Rivera said that he has read all of the Harry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tter books except f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rry Potter and th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athly Hallow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rrors 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Mr. Rivera said that he “has read all of the Harr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tter books except for Harry Potter and th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athly Hallows.”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) Mr. Rivera said that he “has read all of the Harr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tter books except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Harry Potter and th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athly Hallow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C) Mr. Rivera said that he has read all of the Harry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Potter books except for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Harry Potter and the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Deathly Hallows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referring to a short work such as a magazine or newspaper article, a chapter in a book, a short story, an essay, a song, or a poem, put quotation marks around the title of the wor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ually, the titles of longer works are underlined or italiciz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See your textbook for more specific rules and examples for using quotation marks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My sister told me “that I must see thi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ovi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My sister told me that I must see thi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ovi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My sister told me that I, “Must see thi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ovi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My sister told me “that I must see thi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ovi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My sister told me that I must see this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movi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My sister told me that I, “Must see thi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ovi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“Sorry, no backpacks allowed,” said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curity guar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“Sorry, no backpacks allowed” said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curity guar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Sorry, no backpacks allowed said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curity guar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“Sorry, no backpacks allowed,” said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he security guar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“Sorry, no backpacks allowed” said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curity guar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Sorry, no backpacks allowed said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curity guar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“A little learning wrote Alexander Pope i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 dangerous thing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“A little learning wrote Alexander Pope,”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s a dangerous th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“A little learning,” wrote Alexander Pope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“is a dangerous thing.”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“A little learning wrote Alexander Pope i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 dangerous thing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“A little learning wrote Alexander Pope,”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s a dangerous th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“A little learning,” wrote Alexander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Pope, “is a dangerous thing.”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6:19:37Z</dcterms:created>
  <dc:creator>BSM</dc:creator>
  <dc:description/>
  <dc:language>en-US</dc:language>
  <cp:lastModifiedBy>BSM</cp:lastModifiedBy>
  <dcterms:modified xsi:type="dcterms:W3CDTF">2008-02-14T20:53:06Z</dcterms:modified>
  <cp:revision>169</cp:revision>
  <dc:subject/>
  <dc:title>Sentence Fragments</dc:title>
</cp:coreProperties>
</file>